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2EEC-C4D3-4A23-BEED-6482A0D1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5BC-29D6-4ED1-9368-296D6E53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8E4-0F9E-40CE-A643-3F033265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70C-5B2B-4D82-82BF-13103B1A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1B9-5E30-4DB7-959A-EBB24273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F1E0-2BBC-4BC3-87D6-09AEAFE1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0F6-C1FF-4841-87C4-61C35CCF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325C-7396-4B04-B59F-7738799E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A62B-944A-4363-B979-467D8779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BA60-FECC-4CB3-AED9-0481A2EE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642E-C2D1-4030-B530-0BEEF28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0D2-5001-4987-83FF-F06EE576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85E2-7F5D-4005-B1DE-B236C0FE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A02-2D87-407F-BEF8-00A4278F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47CB-C2B6-4475-A31D-739A5E5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4A79-7C65-42D3-9B1F-E06D239E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D0F4-197F-4652-82C3-00B8B8E7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33C-8727-41FD-9A0D-9AF43A3D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EA1-DCE3-4725-AF12-38AABB77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373-AFEF-47A6-AD27-D6E1B010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118-AE6B-4577-987F-A2CDC38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E4D-B316-48A6-B268-7B04C544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E79-EF1A-40C3-B32D-836772D3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B2CF-8C6A-414A-8B02-159C234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BBA-9E69-48B4-83A0-1DDEF533CA3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9c7c"/>
                </a:gs>
                <a:gs pos="100000">
                  <a:srgbClr val="3c50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82c29"/>
                </a:gs>
                <a:gs pos="50000">
                  <a:srgbClr val="c16059"/>
                </a:gs>
                <a:gs pos="100000">
                  <a:srgbClr val="582c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9c7c"/>
                </a:gs>
                <a:gs pos="50000">
                  <a:srgbClr val="dc893e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c503d"/>
                </a:gs>
                <a:gs pos="100000">
                  <a:srgbClr val="7a9c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856-AE53-4AFE-94D0-AD3B53AEBF0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Presidents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y Christina Garc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George Washingt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the first president of the United States and commander and chief of the Revoluti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president around the time the Constitution and the Bill of Rights were mad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president from 1789-1797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December 14,1799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ohn Adams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e was a horrible preside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t from Virginia. (From Massachusett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in office from 1797-180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on July 4, 182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rved two terms as preside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Vice President for two years under George Washington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a federali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Thomas Jeffers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the third president of the United Sta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office from 1801-1809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rote the Declaration of Independence and helped with the Bill of Rights and Constitutio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the Democrat Republicans and against Hamilton’s federalist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for small businesses and farmer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d July 4,1826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ames Madison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in office from 1809-1817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Was president when the War of 1812 happened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Because they drawn the war after so long, they got respect from all of Europ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This is because Great Britain was the most powerful nation in the world at that time and if they could tie them in a war they must be pretty powerful themselv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Died June 28, 1836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9c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bc3"/>
                </a:solidFill>
                <a:latin typeface="Arial"/>
              </a:rPr>
              <a:t>James Monroe</a:t>
            </a:r>
            <a:endParaRPr b="0" lang="en-US" sz="4000" spc="-1" strike="noStrike">
              <a:solidFill>
                <a:srgbClr val="fbebc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as in office from 1817-1825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rote the Monroe Doctrine stating that Europe could not interfere with North America nor South Americ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ied July 4, 1831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5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3:50:02Z</dcterms:created>
  <dc:creator>Compaq_Owner</dc:creator>
  <dc:description/>
  <dc:language>en-US</dc:language>
  <cp:lastModifiedBy>Compaq_Owner</cp:lastModifiedBy>
  <dcterms:modified xsi:type="dcterms:W3CDTF">2008-04-26T16:19:50Z</dcterms:modified>
  <cp:revision>3</cp:revision>
  <dc:subject/>
  <dc:title>Presidents</dc:title>
</cp:coreProperties>
</file>